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B8C3-CA00-433B-9CC1-D1C6E88F98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d line indicates how the reference is implemented in the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d lines show that the copy-down pattern has been used to handle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example is included in order to show the possible complexity of XMI doc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eded as context for XMI tutorial.  One can easily use to much time in confusing the audience about the MOF 4 level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 is the meta-meta-meta-data or meta-meta-model, this is where MOF it self bel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 is the meta-meta-data or meta-model, this is where metamodels such as UML2.0 and CWM be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1 is the meta-data or model, this is where models belong, examples are UML2.0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0 is the data, or the actual things that are described by the models at leve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the levels are dependent of the viewpoint.  For a UML tool, the models will be the actual data (M0) while the UML2.0 metamodel will be part of the model (M1) for the UML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EMOF and ECORE do not allow attributes of complex type in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A4EF-21AE-4B29-9863-ADA1BD1FE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AF57-BC07-429E-9EDF-6E4840B34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35CA-589E-4358-96F5-4153B1A6E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A1AE-9963-4246-8917-F43978770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18DE-3E48-4522-A484-89C3F8DF8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CF2F-5A00-4DCB-B1D2-F6BA090A0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3486-0EE8-4936-AE38-6A3D2D7C7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47FA-71B4-40BD-8694-B96421548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1953-71C3-4C59-B019-0E5C697F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04F9-C98E-4589-8B61-42EFF023E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6593-FD9B-4644-AEA0-A440EE0AD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D0CB-05A0-4304-99ED-FFD148AA6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Introduction to XML Metadata Interchange (X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767E3CA5-BFBA-4634-B9FC-2AB78E8B5B36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824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SINT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Introductio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XML Metadata Interchange (XM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Department for Cooperative and Trust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Information and Communication Technolog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SINTEF, Forskningsveien 1, N-0314 Oslo, 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http://www.sintef.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588000"/>
            <a:ext cx="1305000" cy="2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E09E-AEA9-41E2-9899-1406702559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Document Production Exam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ccording to schema generated in previous slid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666720" y="2070000"/>
            <a:ext cx="1557360" cy="82548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Born to R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Bruce Springst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8 trac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3179880"/>
            <a:ext cx="85579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&lt;cds:CD xmlns:cds="http://www.sintef.org/CD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xmlns:xsi=http://www.w3.org/2001/XMLSchema-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nb-NO" sz="1600" spc="-1" strike="noStrike">
                <a:solidFill>
                  <a:srgbClr val="003366"/>
                </a:solidFill>
                <a:latin typeface="Courier New"/>
              </a:rPr>
              <a:t>xmlns:xmi=”http://www.omg.org/XMI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xsi:schemaLocation="http://www.sintef.org/CDs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artist="Bruce Springsteen" title="Born To Run" num_tracs="8" 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xmi:id="_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Courier New"/>
              </a:rPr>
              <a:t>&lt;/cds: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0900-9120-4CAD-B7A3-AFCBE015A6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Production Rules II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Association between class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An xsd:element is created with name set to the name of the reference and type set to the type name of the referenced clas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Multiplicity definitions are included if the appropriate parameters are set at the time of gener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enforceMinimumMultiplicity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enforceMaximumMultiplicity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Inheritanc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Challeng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XML schemas only allow single inheritanc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MOF allows multiple inheritanc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Solu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XMI uses a copy down strategy to implement inheritanc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Comic Sans MS"/>
              </a:rPr>
              <a:t>For multiple inheritance properties that occur more than once in the hierarchy are included only once in the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8209-7660-44B9-9A35-1BED33FDD7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with relationship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369720" y="1144440"/>
            <a:ext cx="684540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schema xmlns:cdlib="www.sintef.or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mlns:xmi="http://www.omg.org/XMI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mlns:xsd="http://www.w3.org/2001/XMLSchem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targetNamespace="www.sintef.org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import namespace=http://www.omg.org/XMI schemaLocation="XMI.xs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complexTyp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CD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choice maxOccurs="unbounded" minOccurs="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element ref="xmi:Extension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choi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ref="xmi:i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Group ref="xmi:ObjectAttribs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title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 type="xsd:string" use="require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artist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 type="xsd:string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num_tracs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 type="xsd:int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element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CD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 type="cdlib:C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complexType name="</a:t>
            </a: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CDLibrary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choice maxOccurs="unbounded" minOccurs="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GB" sz="1200" spc="-1" strike="noStrike">
                <a:solidFill>
                  <a:srgbClr val="ff3300"/>
                </a:solidFill>
                <a:latin typeface="Verdana"/>
              </a:rPr>
              <a:t>&lt;xsd:element name="</a:t>
            </a: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cds</a:t>
            </a:r>
            <a:r>
              <a:rPr b="0" lang="en-GB" sz="1200" spc="-1" strike="noStrike">
                <a:solidFill>
                  <a:srgbClr val="ff3300"/>
                </a:solidFill>
                <a:latin typeface="Verdana"/>
              </a:rPr>
              <a:t>" type="cdlib:C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element ref="xmi:Extension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choi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ref="xmi:id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Group ref="xmi:ObjectAttribs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attribute name="owner" type="xsd:string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complexTyp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xsd:element name="CDLibrary" type="cdlib:CDLibrary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xsd:schem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286760" y="398520"/>
            <a:ext cx="1671480" cy="240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CB18-073C-4F02-8171-6D62BA692B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with inheritan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22960" y="638280"/>
            <a:ext cx="1671840" cy="1906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9720" y="1144440"/>
            <a:ext cx="684540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schema xmlns:xmi=http://www.omg.org/X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xmlns:xsd="http://www.w3.org/2001/XMLSchema" xmlns=“ml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import namespace="http://www.omg.org/XMI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schemaLocation="XMI.xs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complexType name="Media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choice maxOccurs="unbounded" minOccurs="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element ref="xmi:Extension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/xsd:cho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attribute ref="xmi:i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attributeGroup ref="xmi:ObjectAttribs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ff3300"/>
                </a:solidFill>
                <a:latin typeface="Courier New"/>
              </a:rPr>
              <a:t>&lt;xsd:attribute name="title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element name="Media" type=“ml:Media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complexType name="CD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ff3300"/>
                </a:solidFill>
                <a:latin typeface="Courier New"/>
              </a:rPr>
              <a:t>&lt;xsd:attribute name="title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attribute name="artist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attribute name="num_tracs" type="xsd:int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xsd:element name="CD" type=“ml:CD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urier New"/>
              </a:rPr>
              <a:t>&lt;/xsd:schem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B3CF-5F71-4E41-A3CE-8C59E8B5D5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Document with relationship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21640" y="3537000"/>
            <a:ext cx="76222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cdlib:CDLibrary xmlns:cdlib="www.sintef.or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mlns:xmi="http://www.omg.org/XMI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mlns:xsi="http://www.w3.org/2001/XMLSchema-instanc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xsi:schemaLocation="www.sintef.org CDLibraryXMI.xsd http://www.omg.org/XMI XMI.xsd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owner="Tor Neple" xmi:id="_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cds title="Born To Run" xmi:id="_2" artist="Bruce Springsteen" num_tracs="8"&gt;&lt;/cd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cds title="Achtung Baby" xmi:id="_3" artist="U2" num_tracs="13"&gt;&lt;/cd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&lt;/cdlib:CDLibrar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4320" y="687240"/>
            <a:ext cx="2333520" cy="264816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Verdana"/>
              </a:rPr>
              <a:t>CD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Verdana"/>
              </a:rPr>
              <a:t>Owner = Jon D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520" y="1360440"/>
            <a:ext cx="1557360" cy="82548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Born to R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Bruce Springst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8 trac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800" y="2286000"/>
            <a:ext cx="1557360" cy="82548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Achtung Ba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U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66"/>
                </a:solidFill>
                <a:latin typeface="Verdana"/>
              </a:rPr>
              <a:t>13 trac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25F7-4CFD-462B-93AA-7F83DBBC53D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Differen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allows you to express differences in XMI documen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an be used to just communicate the changes in a document rather than the whole documen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ypes of differen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Ad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let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Replac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48160" y="2930400"/>
            <a:ext cx="452592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8CAD-C0B1-4DF1-8F81-33C2926E86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imple example of differen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320" y="719280"/>
            <a:ext cx="1720800" cy="2517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17560" y="971640"/>
            <a:ext cx="723600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XMI xmi:version=”2.0” xmlns:xmi=http://www.omg.org/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MediaCollection xmi:id=”_1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items xmi:id=”_2” name=”Purple Rain” xmi:type=”C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items xmi:id=”_3” name=”Pulp Fiction” xmi:type=”DV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MediaColle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8440" y="2706840"/>
            <a:ext cx="723564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XMI xmi:version=”2.0” xmlns:xmi=http://www.omg.org/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Dele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target href=”collection.xmi#_2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Dele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Add addition=”NM1” position=”1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target href=”collection.xmi#_1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Ad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CD xmi:id=”NM1” name=”Thunder Roa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39880" y="5113440"/>
            <a:ext cx="723600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mi:XMI xmi:version=”2.0” xmlns:xmi=http://www.omg.org/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MediaCollection xmi:id=”_1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items xmi:id=”NM1” name=Thunder Road” xmi:type=”C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items xmi:id=”_3” name=”Pulp Fiction” xmi:type=”DV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MediaColle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mi:XM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9200" y="69228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collection.x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6080" y="238284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dif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04240" y="48369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B2AC-08D0-4340-B780-00B94BA71B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Tool interoperabilit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Use of XMI for tool interoperability is not always straightforwar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Different XMI versions and different metamodel vers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ake XMI for UML as an exampl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1.0 for UML 1.3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1.1 for UML 1.3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1.2 for UML 1.4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2.0 for UML 1.4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XMI 2.1 for UML 2.0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ommon to see that UML tools have a ”choose XMI format” dialog when exporting to XMI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509B-BC39-44FD-BD45-08C96832A80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XMI in Eclips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clipse uses the Eclipse Modeling Framework (EMF) as its Meta Object Facilit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CORE (EMF metamodel) is similar to EMOF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EMF project contains tools to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reate ECORE meta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reate XMI schemas for ECORE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Create models according to the defined meta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Reading and writing such models in XMI forma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Ecore XMI != OMG XMI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ome small differences since there are some differences between ECORE and EMOF (Essential MOF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AC41-195C-45C7-98EC-C26140E9BD3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IMPLE UML model in XMI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0320" y="638280"/>
            <a:ext cx="3300120" cy="725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00" y="1262160"/>
            <a:ext cx="8974080" cy="42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?xml version="1.0" encoding="UTF-8"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uml:Model xmi:version="2.0" xmlns:xmi="http://www.omg.org/XMI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xmlns:uml="http://www.eclipse.org/uml2/1.0.0/UML" xmi:id="_UwyEFBV_Edqs_vsvaW3hqA" name=“CarOwner" 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Member xmi:type="uml:Class" xmi:id="_UwyEHxV_Edqs_vsvaW3hqA" name="Car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Attribute xmi:id="_UwyEIBV_Edqs_vsvaW3hqA" name="owner" visibility="private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type="_UwyEIhV_Edqs_vsvaW3hqA" association="_UwyEJxV_Edqs_vsvaW3hqA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Attribute xmi:id="_UwyEIRV_Edqs_vsvaW3hqA" name="manufacturer" visibility="privat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type xmi:type="uml:PrimitiveType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href="pathmap://UML2_LIBRARIES/UML2PrimitiveTypes.library.uml2#_IXlH8a86EdieaYgxtVWN8Q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Attribu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Memb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Member xmi:type="uml:Class" xmi:id="_UwyEIhV_Edqs_vsvaW3hqA" name="Owner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Attribute xmi:id="_UwyEIxV_Edqs_vsvaW3hqA" name="ownedCars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visibility="private" type="_UwyEHxV_Edqs_vsvaW3hqA" association="_UwyEJxV_Edqs_vsvaW3hqA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upperValue xmi:type="uml:LiteralUnlimitedNatural" xmi:id="_UwyEJBV_Edqs_vsvaW3hqA" value="-1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lowerValue xmi:type="uml:LiteralInteger" xmi:id="_UwyEJRV_Edqs_vsvaW3hqA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Attribu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Attribute xmi:id="_UwyEJhV_Edqs_vsvaW3hqA" name="name" visibility="privat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type xmi:type="uml:PrimitiveType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href="pathmap://UML2_LIBRARIES/UML2PrimitiveTypes.library.uml2#_IXlH8a86EdieaYgxtVWN8Q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Attribu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ownedMemb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ownedMember xmi:type="uml:Association"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xmi:id="_UwyEJxV_Edqs_vsvaW3hqA" memberEnd="_UwyEIBV_Edqs_vsvaW3hqA _UwyEIxV_Edqs_vsvaW3hqA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Courier New"/>
              </a:rPr>
              <a:t>&lt;/uml:Model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2840" y="5952960"/>
            <a:ext cx="591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Verdana"/>
              </a:rPr>
              <a:t>Simplified UML2.0 xmi file exported from Rational Software Archi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Verdana"/>
              </a:rPr>
              <a:t>EMF based, not MOF XMI compl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D703-1890-4786-9B87-A1D0C159C21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6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4E6F-D726-429E-9ACA-9FF2567195D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ummary and Conclus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allows for defining, interchanging, manipulating and integrating XML data and objec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Defines rules for creation of schema from metamodel and document from 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Works on MOF based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Widely used for model interchange between UML too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Great possibilites for version conflic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E0D3-5ADB-447A-9400-F8973E0708A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Comic Sans MS"/>
              </a:rPr>
              <a:t>XMI from 30 000 fee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is short for XML Metadata Interchang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is a standard (and a trademark) from the Object Management Group (OMG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is a framework for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Defining, interchanging, manipulating and integrating XML data and object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Used for integr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Tools, applications, repositories, data warehouse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Typically used as interchange format for UML too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defines rules for schema defini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Definition of schema from any valid Meta Object Facility (MOF) 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Schema produc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XMI defines rules for metadata gener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Metadata according to a MOF metamodel is generated into XML according to the generated XML schem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Document produc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3F5B-31FF-4341-871C-8991B6DB0EF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Comic Sans MS"/>
              </a:rPr>
              <a:t>Metamode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odel: Model of a set of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odels are specific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odels are valid if no false statements according to metamodel (i.e., well-formed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eta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odel of meta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reflexive metamodel, i.e., expressed using itself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ref. Kurt Gö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inimal reflexive meta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can be used to express any statement about a 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BE58-0794-4A9A-B563-981A33F375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Meta levels in OM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M0 – what is to be modelled (Das Ding an sich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M1 – Models (Das Ding für mich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May contain both class/type and instance mode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M2 – Metamodel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UML2.0 and CWM (Common Warehouse Metamodel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M3 – The metametamodel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MOF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Interpretation (not instantiation!) crosses meta-layers, theories reside in one layer (e.g., instance models can be deduced from class models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The Meta Object Facility (MOF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Facility to handle models and instances of models at multiple leve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Contains self describing metametamodel (called MOF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F7A1-B423-4CD4-ABA5-74C4152A87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History - XMI versions and MOF vers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1.1 corresponds to MOF 1.3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1.2 corresponds to MOF 1.4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1.3 (added Schema support) corresponds to MOF 1.4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2.0 (adds Schema support and changes document format) corresponds to MOF 1.4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XMI 2.1 corresponds  to MOF 2.0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9703-342E-4D6D-B1E8-73D9DB4D10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Comic Sans MS"/>
              </a:rPr>
              <a:t>MOF and XMI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076400" y="1957320"/>
            <a:ext cx="1657440" cy="79704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MOF Meta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7840" y="3894120"/>
            <a:ext cx="1657440" cy="797040"/>
          </a:xfrm>
          <a:prstGeom prst="rect">
            <a:avLst/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MOF Meta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2840" y="1935000"/>
            <a:ext cx="1506600" cy="830520"/>
          </a:xfrm>
          <a:prstGeom prst="foldedCorner">
            <a:avLst>
              <a:gd name="adj" fmla="val 12500"/>
            </a:avLst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XML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3871800"/>
            <a:ext cx="1506600" cy="830520"/>
          </a:xfrm>
          <a:prstGeom prst="foldedCorner">
            <a:avLst>
              <a:gd name="adj" fmla="val 12500"/>
            </a:avLst>
          </a:prstGeom>
          <a:solidFill>
            <a:srgbClr val="c7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66"/>
                </a:solidFill>
                <a:latin typeface="Verdana"/>
              </a:rPr>
              <a:t>XMI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7" idx="0"/>
            <a:endCxn id="66" idx="2"/>
          </p:cNvCxnSpPr>
          <p:nvPr/>
        </p:nvCxnSpPr>
        <p:spPr>
          <a:xfrm flipH="1" flipV="1">
            <a:off x="1904760" y="2754000"/>
            <a:ext cx="2160" cy="11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9" idx="0"/>
            <a:endCxn id="68" idx="2"/>
          </p:cNvCxnSpPr>
          <p:nvPr/>
        </p:nvCxnSpPr>
        <p:spPr>
          <a:xfrm flipH="1" flipV="1">
            <a:off x="5476680" y="2764800"/>
            <a:ext cx="2160" cy="110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6" idx="3"/>
            <a:endCxn id="68" idx="1"/>
          </p:cNvCxnSpPr>
          <p:nvPr/>
        </p:nvCxnSpPr>
        <p:spPr>
          <a:xfrm flipV="1">
            <a:off x="2733480" y="2350440"/>
            <a:ext cx="1989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9" idx="1"/>
          </p:cNvCxnSpPr>
          <p:nvPr/>
        </p:nvCxnSpPr>
        <p:spPr>
          <a:xfrm flipV="1">
            <a:off x="2734920" y="4287240"/>
            <a:ext cx="1989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2978640" y="440676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66"/>
                </a:solidFill>
                <a:latin typeface="Verdana"/>
              </a:rPr>
              <a:t>Generat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68920" y="24606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66"/>
                </a:solidFill>
                <a:latin typeface="Verdana"/>
              </a:rPr>
              <a:t>Generat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24440" y="3191040"/>
            <a:ext cx="10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66"/>
                </a:solidFill>
                <a:latin typeface="Verdana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97800" y="3181320"/>
            <a:ext cx="10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66"/>
                </a:solidFill>
                <a:latin typeface="Verdana"/>
              </a:rPr>
              <a:t>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1BE6-55FB-41F3-B1F6-C6A7621DBC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production rules I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set of rules are defined by the standar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ome of them are quite complex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Typically intended to be implemented, not for human us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EBNF (Extended Backus-Naur form) rules are supplied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etamodel 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apped to xsd:element and xsd:complexType with same name as Metamodel 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ttribute of 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apped to xsd:element and xsd:attribute if simple data type and the cardinality of the attribute is [1..1] or [0..1]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apped to element if xsd:complexTyp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Comic Sans MS"/>
              </a:rPr>
              <a:t>Note: only possible in CMOF (Complete MOF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5488-EF46-46FD-AB88-04E6824AD7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mic Sans MS"/>
              </a:rPr>
              <a:t>Schema Production Exam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41120" y="714240"/>
            <a:ext cx="723600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schema xmlns:xsd=”http://www.w3c.org/2001/XMLSchem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xmlns:xmi=”http://www.omg.org/XM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targetNamespace=”http://www.sintef.org/CD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xmlns:cds=”http://www.sintef.org/CDs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complexType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CD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choice minOccurs=”0” maxOccurs=”unbounded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name=”title” type=”xsd:string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name=”artist” type=”xsd:string”/&gt;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name=”num_tracs” type=”xsd:integer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ref=”xmi:Extension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sd:cho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attribute ref=”xmi:i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attribute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title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 type=”xsd:string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attribute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artist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 type=”xsd:string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attribute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num_tracs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 type=”xsd:integer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xsd:element name=”</a:t>
            </a:r>
            <a:r>
              <a:rPr b="0" lang="nb-NO" sz="1400" spc="-1" strike="noStrike">
                <a:solidFill>
                  <a:srgbClr val="0033cc"/>
                </a:solidFill>
                <a:latin typeface="Courier New"/>
              </a:rPr>
              <a:t>CD</a:t>
            </a: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” type=”cds:CD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Courier New"/>
              </a:rPr>
              <a:t>&lt;/xsd:schem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04120" y="762120"/>
            <a:ext cx="167148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3B9C-FF47-48DA-A1E4-F30A5D14F7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6:38Z</dcterms:modified>
  <cp:revision>892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